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7D5-0A8F-4D83-BCE0-2BFB3812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800-B6D9-4CA9-A4F4-D7BCB1E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14C-1790-4A25-9E99-ED64A3D2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417-AA54-4FB6-B0ED-F588013D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795-DA17-4F8D-BED4-EE1345BA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DD1-B3F6-4A28-AEE9-E4EFF50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168-E65E-428A-A9F7-9B2EAE7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7260-20CD-45A8-B85F-C4B99945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2F99-5DE6-4DC9-9E7B-E3324780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AA21-6403-45B7-9E21-8BE4B7F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B2F-2C22-49A6-A08A-359C88F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04C-AF8F-44B8-A6CC-F01E91B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4321-FAFE-48C7-898B-550702B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736-B9BB-4427-8DBE-7FC98153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887-4691-4B6F-B9A6-CDD1A68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937-728F-4FD4-8262-6CA731CD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1CD5-BD40-4528-970C-1860E137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2CD-0BEE-4BAB-9FD7-4C78A84C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314-344F-4CB1-9A84-0180277F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C27-BC2A-487B-9133-0442FC3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AC8-8C8C-4770-822D-AECE009A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A4C-8824-4D75-97FB-4B73B8F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B53-3074-4815-92B3-2958546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0BD-0E05-4263-B2B6-8242CE6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EE2-71AF-4659-B4C5-AB0FC666A1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FBA-FF44-4FB8-A7DF-4D323CCC0A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ts.ru/index.cfm?id=2438&amp;isin=EERU-12.05" TargetMode="External"/><Relationship Id="rId2" Type="http://schemas.openxmlformats.org/officeDocument/2006/relationships/hyperlink" Target="http://www.rts.ru/index.cfm?id=2438&amp;isin=GAZR-12.05" TargetMode="External"/><Relationship Id="rId3" Type="http://schemas.openxmlformats.org/officeDocument/2006/relationships/hyperlink" Target="http://www.rts.ru/index.cfm?id=2438&amp;isin=LKOH-12.05" TargetMode="External"/><Relationship Id="rId4" Type="http://schemas.openxmlformats.org/officeDocument/2006/relationships/hyperlink" Target="http://www.rts.ru/index.cfm?id=2438&amp;isin=MB3-12.05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лассификация фьючерсных контрактов.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Виды в российской практике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полнил: Нагорнов А.В.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02ФК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F37-A1B2-40E2-9968-CDA932E11442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ьючерсы на товар в Росс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Биржа «Санкт-Петербург»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Расчетные фьючерсные контракты на сырую нефть марки Brent ("брент")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03280" y="2349360"/>
          <a:ext cx="7280280" cy="2024280"/>
        </p:xfrm>
        <a:graphic>
          <a:graphicData uri="http://schemas.openxmlformats.org/drawingml/2006/table">
            <a:tbl>
              <a:tblPr/>
              <a:tblGrid>
                <a:gridCol w="2255760"/>
                <a:gridCol w="5024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зовый ак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ырая нефть марки B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м контра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баррелей нефти и 1000 баррелей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тировка контра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олларах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ь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ое число месяца исполнения или предшествующий ему торговый день, если 15-ое число приходится на выходной или нерабочий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ытие позиций с расчётом вариационной маржи, исходя из окончательной расчётной цены КОНТРА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403280" y="5157720"/>
          <a:ext cx="7416720" cy="996840"/>
        </p:xfrm>
        <a:graphic>
          <a:graphicData uri="http://schemas.openxmlformats.org/drawingml/2006/table">
            <a:tbl>
              <a:tblPr/>
              <a:tblGrid>
                <a:gridCol w="1238400"/>
                <a:gridCol w="1238040"/>
                <a:gridCol w="1239840"/>
                <a:gridCol w="1252800"/>
                <a:gridCol w="1224000"/>
                <a:gridCol w="1223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четная 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яя 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елки,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орот, контра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100-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/10/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.7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332000" y="4581360"/>
            <a:ext cx="73054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езультаты последних торгов (23/09/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B7F-D093-4907-9DEA-203C4AADE999}" type="slidenum">
              <a:t>10</a:t>
            </a:fld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ндексные фьючер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Индексный фьючерс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договорное обязательство продать и, соответственно, купить стандартизированную величину одного из индексов по заранее определенному курсу (величине) этого индекса в будущую, стандартизированную дату исполнения обязательст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D5D-ABEA-4251-A93D-1C51D80ED9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ьючерсы на индекс в Росс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тракт на индекс РТС с котировками в пунктах индекса и исполнением 15 декабря 2005 г., 15 марта 2006 г., 15 июня 2006 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четны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тив - Значения индекса РТ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ъем - Значение индекса РТС * 0.02$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сяцы исполнения - Последний месяц каждого квартал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сполнение - Закрытие позиций с расчетом вариационной маржи, исходя из среднего значения индекса РТС за последний час торг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B69-7886-40D6-B40F-EED02583B9E7}" type="slidenum">
              <a:t>12</a:t>
            </a:fld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татистика РТ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1916280"/>
          <a:ext cx="7921800" cy="3800160"/>
        </p:xfrm>
        <a:graphic>
          <a:graphicData uri="http://schemas.openxmlformats.org/drawingml/2006/table">
            <a:tbl>
              <a:tblPr/>
              <a:tblGrid>
                <a:gridCol w="576360"/>
                <a:gridCol w="936720"/>
                <a:gridCol w="936720"/>
                <a:gridCol w="718920"/>
                <a:gridCol w="792360"/>
                <a:gridCol w="576000"/>
                <a:gridCol w="576360"/>
                <a:gridCol w="1079640"/>
                <a:gridCol w="841320"/>
                <a:gridCol w="887400"/>
              </a:tblGrid>
              <a:tr h="246240"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OR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яя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закрыти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уп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ж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.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уб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х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EERU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+0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479 790 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 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 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GAZR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+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3 370 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 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LKOH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 149 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 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MB3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 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 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KM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+0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 881 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 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032 465 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 0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GR-1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 788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 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тировки срочных контрактов приведены в рублях на 23.09.2005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AB4-BF4E-466D-8DBC-EE8FCA6EA2BD}" type="slidenum">
              <a:t>13</a:t>
            </a:fld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татистика РТС по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628640"/>
          <a:ext cx="4103640" cy="30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410364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932360" y="1628640"/>
          <a:ext cx="4014720" cy="305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628640"/>
                    <a:ext cx="40147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B2D-D1E4-444F-A98F-E2D23246FA43}" type="slidenum">
              <a:t>14</a:t>
            </a:fld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сточники информ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.rts.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.micex.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.spcex.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.spbfe.futures.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.spbex.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ttp://www.wfin.kz/archive/jurbin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ttp://www.alpari-idc.ru/ru/markets/futures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BED-BCDC-4140-8543-C2E06E5CA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5020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Спасибо за внимание.</a:t>
            </a:r>
            <a:br>
              <a:rPr sz="5400"/>
            </a:b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810-444F-44A4-A375-0D0E6FDBE5A3}" type="slidenum">
              <a:t>16</a:t>
            </a:fld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в зависимости от акти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Финансовые фьючерс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алютные фьючерс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ьючерсы на ценные бумаг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центные фьючерс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ьючерсы на индекс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оварные фьючерс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ьючерсы на товар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EF2-4CFC-4ECB-B3A7-B1500F3264B6}" type="slidenum">
              <a:t>2</a:t>
            </a:fld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иды в зависимости от необходимости поставки акти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Расчетный фьючерс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стандартный биржевой договор, по которому стороны сделки берут на себя обязательства по перечислению/списанию вариационной маржи (дохода/убытков) в зависимости от изменения цен базового актив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Поставочный фьючерс -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связан с заключением контракта на реальную поставку базового акти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81C-FF9C-45F7-9D97-9610C43A86D0}" type="slidenum">
              <a:t>3</a:t>
            </a:fld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центные фьючер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Процентный фьючерс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это договорное обязательство купить (принять) и, соответственно, продать (поставить) процентный инструмент с оговоренными в контракте сроками и процентной ставкой по заранее определенному курсу (ставке) на определенную стандартизированную будущую дат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азличаю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аткосрочные процентные фьючерс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олгосрочные процентные фьючерс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AC7-ED03-4424-862F-9D8A997C83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оссийский рынок фьючерс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2205000"/>
          <a:ext cx="46479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4647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140360" y="2205000"/>
          <a:ext cx="4608360" cy="29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205000"/>
                    <a:ext cx="46083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E74-B905-4C6C-8434-56BFF451BE3B}" type="slidenum">
              <a:t>5</a:t>
            </a:fld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Динамика открытых позиций по фьючерсам на ММВБ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38972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7E2-ABD3-4020-A7DB-071D3E785C9D}" type="slidenum">
              <a:t>6</a:t>
            </a:fld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алютные фьючер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Валютный фьючерс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– это договорное обязательство продать (поставить) и, соответственно, купить (принять) определенное стандартизированное количество валюты по заранее определенному курсу в определенную стандартизированную будущую дат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CF8-C3C9-4F95-B7AC-89FE790097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алютные фьючерсы в Росс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МВБ, СПВ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ьючерсы на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ьючерсы на евр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ьючерсы на евро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в рублях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ВБ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ьючерсы на евро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в долларах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Т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ьючерсы на доллар СШ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DA3-7D98-4F22-B5C1-71595E66E800}" type="slidenum">
              <a:t>8</a:t>
            </a:fld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ьючерсы на ценные бумаги в Росс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773360"/>
          <a:ext cx="7994520" cy="3822480"/>
        </p:xfrm>
        <a:graphic>
          <a:graphicData uri="http://schemas.openxmlformats.org/drawingml/2006/table">
            <a:tbl>
              <a:tblPr/>
              <a:tblGrid>
                <a:gridCol w="3998880"/>
                <a:gridCol w="399564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 испол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36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ТС (Поставочные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онтракт на акции РАО «ЕЭС Росси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, 15.06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онтракт на акции ОАО «Газпром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, 15.06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акт на акции НК «ЛУКойл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акт на акции ОАО «Ростелеком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акт на акции ОАО «Сургутнефтегаз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акт на обыкновенные именные бездокументарные акции ОАО ГМК “Норильский Никель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12.05, 15.03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акт на 3-х летние облигации Городского облигационного (внутреннего) займа Москв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12.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30B-CF67-44C6-B69D-EB7145CEB153}" type="slidenum">
              <a:t>9</a:t>
            </a:fld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2:39:40Z</dcterms:created>
  <dc:creator>ThisIsMe</dc:creator>
  <dc:description/>
  <dc:language>en-US</dc:language>
  <cp:lastModifiedBy>ThisIsMe</cp:lastModifiedBy>
  <dcterms:modified xsi:type="dcterms:W3CDTF">2005-09-26T06:36:14Z</dcterms:modified>
  <cp:revision>27</cp:revision>
  <dc:subject/>
  <dc:title>Классификация фьючерсных контрактов</dc:title>
</cp:coreProperties>
</file>